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99C-A642-4D8E-9321-E437A069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FBC-904F-4951-9151-59D70AAE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965-24AE-44D0-AA65-18ED946A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4BF-9977-42DC-9F96-C215A102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D5C2-177A-4C01-B382-80918195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34F0-C23F-4725-B273-C36EBB6C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F33B-DCA2-4BE9-8672-13475DBB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7CEB-3A86-425C-8626-1CC470CD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C280-6BE5-4638-A153-528394D7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3B5F-6EA5-4E1A-B2A8-D35BD117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DD46-E620-4937-AD3C-78D1034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B88-0042-4FCB-BCC5-ACD50A2E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A0C5-7386-4392-8995-8107574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674C-57D2-4150-89B6-A63CA198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2EA8-719F-4682-B8ED-B1A8CD1B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E03C-C9F0-4A3D-A8B2-664FDDD6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9D2C-51C1-4BB3-972C-8848401A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CED40-7D92-4F89-B133-842FB030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2279-2A98-467B-97B0-A5CA61B5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F338-CA0B-4423-92FE-017FB4E3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4A4A-2568-48AA-AA0D-DFBC0972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5ECC-3226-422E-A2B9-FAA4A262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2AC-69CF-4179-B840-2F504CB5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43CC-F95E-4862-A359-61D13025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13A1-82D0-4DCC-8B8D-41C27EDE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B425-8788-4AA8-A66B-3B945457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6FA1-52CD-4B62-A8D4-770FC487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4540-BAEE-4CF5-8FBF-021B4373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5E1D-7B83-4DDB-BDF1-CFBDB6A8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C9EA-74F8-4B6A-BBEC-F4FB8ACA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80A1-D6F1-4703-AE61-82E1F123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6B52-1FDD-4DC9-B95C-F452E9FC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9A78A-AA26-444F-A29E-5C8C1C41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701-6653-4905-9E5C-FEE48CEC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D9B4-3429-4DEB-9D1D-8B2853C6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1BBC-794C-49AC-A89D-D227C6A3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90592-6CB2-469F-8427-11675B52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9A61C-4561-4462-9F76-94D58F35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06914-FF80-4CD9-9D31-ABA759D3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283B5-2E4D-467F-87F1-C291668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EB78-E649-4B16-9F0A-09609969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5EC68-3973-47CA-A997-F2154449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71585-576C-4E16-9FC3-A038670E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659-8442-4CD2-8283-F8C8A048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21F-ED13-49D4-9697-1CA73EB5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D95-0234-4350-A26B-09E21ADB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737-8E88-4EC0-AC92-295850BE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35B-9062-4695-BA9E-8998E69F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B45D-30B4-45E0-8F84-98BACB27342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8187-EE33-485C-BB75-1637416721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9435-CDE1-4A63-9FED-B1693B3FB85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5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5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5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B8A2-6864-419C-B97E-246906CE1BE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Тес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49440" y="4051440"/>
            <a:ext cx="669456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Имя прилагательно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488880"/>
            <a:ext cx="74768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7d47d"/>
                </a:solidFill>
                <a:latin typeface="Arial"/>
              </a:rPr>
              <a:t>1.Что такое имя прилагательное?</a:t>
            </a:r>
            <a:endParaRPr b="0" lang="en-US" sz="2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ло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часть реч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член предложени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2. В какой строке даны только имена прилагательны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иний, синь, сине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надежда, белый, сини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надёжный, синенький, белы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3. С какой частью речи связано  имя прилагательное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 именем существительны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с глаголо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не связан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4.У прилагательного нет следующего признак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числ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род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времен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5.В каком имени прилагательном нужно писать окончание –ЕЕ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9360">
            <a:solidFill>
              <a:srgbClr val="c1605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утренн… неб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утренн… зарядк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утренн… завтра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6. Укажи род прилагательных в предложени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есеннем лесу песню раннюю запел жаворон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р.р.;ж.р.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м.р.;ж.р.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м.р.;ср.р.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7. В каком падеже у имён прилагательных окончания –ОМУ,-ЕМУ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267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в творительном падеж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в родительном падеж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в дательном падеж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8. Какая буква пропущена в окончании имён прилагательных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ружился в син…м небе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 ближн…м озер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-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-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другая букв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9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9.Укажи падеж прилагательных в словосочетаниях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идел в синем небе, рисовал на холодном окн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винительный падеж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предложный падеж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творительный падеж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10. Если прилагательное имеет окончание –АЯ (-ЯЯ), то какого оно рода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редне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женск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мужск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верь себ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85840" y="14997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. 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. А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. 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5. А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6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7. 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8. А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9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0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9:31:43Z</dcterms:created>
  <dc:creator>Olga</dc:creator>
  <dc:description/>
  <dc:language>en-US</dc:language>
  <cp:lastModifiedBy>Computer</cp:lastModifiedBy>
  <dcterms:modified xsi:type="dcterms:W3CDTF">2013-02-14T11:01:04Z</dcterms:modified>
  <cp:revision>16</cp:revision>
  <dc:subject/>
  <dc:title>1.Что такое имя прилагательное?</dc:title>
</cp:coreProperties>
</file>